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04AC-CAF3-42FD-AFB8-2D2A9B943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5853-5051-4D7C-B4E7-01FCB42CF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3A96-1E0A-41EF-B6CF-016A6D49B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E471-4E4A-4B8C-B575-1D663F68D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4C14-D7C8-4875-B7B2-7F916ACBB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B4BF-DB20-4946-9BAB-198522C8D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CD8C-3B09-486F-9254-BA6DE4776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C306-B980-4484-A9DF-5F34E9AF2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0625-DC51-4BC5-9D4B-214FF111C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C02B-496C-4823-9217-D793D0F0A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4448-8047-413E-B1DE-3E46A4844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CD18-B5FC-46DD-BB0C-537CEE842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4290-19B6-4D6F-BEE0-E0BA142A7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0205-44C2-49CA-A593-F4A7CF9E2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549B-04EE-4B22-8CAF-63E1395D3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91E2-0998-45AD-8CF8-EABAD35FB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535E-2C73-4097-A01A-EDE626002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AF86-51E6-4CD3-BB8C-8330186BE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D909-9C18-4369-9A4E-A65580510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956C-1C29-4458-BB2C-476FD7FD2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9AF3-412F-40D5-853F-4AEFE114C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5A5C-D74A-4A2B-BFE4-1AFBEE771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91C3-5FA1-492E-924A-A53CF6B7C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AD30-B2D6-42C2-B364-374B5402A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C5EF-C53B-476B-A415-952A2C0A1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4C67-462F-481C-A357-2637EC8DA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6FE5-C4A7-46C0-AF3E-C8AB7828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EE79-D860-4C77-B6B4-E5021BA4C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367D-7AEF-48F5-BCEA-D73711DD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4AE5-638D-4BD6-AE6C-BBB7CCBC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266C-AA28-46BA-9B0C-2A8F8A16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67EC-B1DC-4215-ADEC-7EC5C419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9DD3-F7E4-4390-B66A-8A9609D3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1B71-C86F-48DB-9BCE-F68A1712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1B3C-D8E5-40C1-A9D2-FE484E21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A8D7-2EAA-4E65-AA07-43AE986C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4724-7535-44F7-AC15-285923EB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5A08-360E-454A-85B0-E16F698B9D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zriq2.tripod.com/tafapic/index.album?i=0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cover-vs-original.com/i-shot-the-sheriff/bob-marley-burnin.jpg&amp;imgrefurl=http://www.cover-vs-original.com/i-shot-the-sheriff/eric-clapton-bob-marley.html&amp;h=160&amp;w=160&amp;sz=11&amp;hl=en&amp;start=3&amp;um=1&amp;tbnid=34dBSEb4f2mkXM:&amp;tbnh=98&amp;tbnw=98&amp;prev=/images%3Fq%3Dbob%2Bmarley%2Bburnin%26svnum%3D10%26um%3D1%26hl%3Den%26sa%3DX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Postmodernis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5049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im: to gain a basic conceptual understanding of postmodern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apply theories of postmodernism to Advanced production Course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2- Fi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DVD%20-%20Romeo%20&amp;%20Juliet%20(Hollywood)"/>
          <p:cNvPicPr/>
          <p:nvPr/>
        </p:nvPicPr>
        <p:blipFill>
          <a:blip r:embed="rId1"/>
          <a:stretch/>
        </p:blipFill>
        <p:spPr>
          <a:xfrm>
            <a:off x="2843280" y="1916280"/>
            <a:ext cx="2933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s 3- Adverti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Ronaldo"/>
          <p:cNvPicPr/>
          <p:nvPr/>
        </p:nvPicPr>
        <p:blipFill>
          <a:blip r:embed="rId1"/>
          <a:stretch/>
        </p:blipFill>
        <p:spPr>
          <a:xfrm>
            <a:off x="1523880" y="2209680"/>
            <a:ext cx="632484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71600" y="-360"/>
            <a:ext cx="86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Madonna –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‘the queen of reinvention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25" descr="69eeac19-2827-4fe8-b7dd-c37a16e0e664"/>
          <p:cNvPicPr/>
          <p:nvPr/>
        </p:nvPicPr>
        <p:blipFill>
          <a:blip r:embed="rId1"/>
          <a:stretch/>
        </p:blipFill>
        <p:spPr>
          <a:xfrm>
            <a:off x="7020000" y="2997360"/>
            <a:ext cx="1676160" cy="2303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0" name="Picture 27" descr="18794334"/>
          <p:cNvPicPr/>
          <p:nvPr/>
        </p:nvPicPr>
        <p:blipFill>
          <a:blip r:embed="rId2"/>
          <a:stretch/>
        </p:blipFill>
        <p:spPr>
          <a:xfrm>
            <a:off x="611280" y="1125360"/>
            <a:ext cx="2103480" cy="2665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1" name="Picture 29" descr="madonna_material_8"/>
          <p:cNvPicPr/>
          <p:nvPr/>
        </p:nvPicPr>
        <p:blipFill>
          <a:blip r:embed="rId3"/>
          <a:stretch/>
        </p:blipFill>
        <p:spPr>
          <a:xfrm>
            <a:off x="2916360" y="1628640"/>
            <a:ext cx="3744720" cy="3159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2" name="Picture 31" descr="258227~Deborah-Harry-Posters"/>
          <p:cNvPicPr/>
          <p:nvPr/>
        </p:nvPicPr>
        <p:blipFill>
          <a:blip r:embed="rId4"/>
          <a:stretch/>
        </p:blipFill>
        <p:spPr>
          <a:xfrm>
            <a:off x="250920" y="3500280"/>
            <a:ext cx="1741320" cy="2175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3" name="Picture 33" descr="gwen-stefani-sweet-escape"/>
          <p:cNvPicPr/>
          <p:nvPr/>
        </p:nvPicPr>
        <p:blipFill>
          <a:blip r:embed="rId5"/>
          <a:stretch/>
        </p:blipFill>
        <p:spPr>
          <a:xfrm>
            <a:off x="6804000" y="1197000"/>
            <a:ext cx="2016000" cy="1512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4" name="Picture 35" descr="0102_kylie_minogue_a-thumb"/>
          <p:cNvPicPr/>
          <p:nvPr/>
        </p:nvPicPr>
        <p:blipFill>
          <a:blip r:embed="rId6"/>
          <a:stretch/>
        </p:blipFill>
        <p:spPr>
          <a:xfrm>
            <a:off x="5940360" y="4941720"/>
            <a:ext cx="1654200" cy="1654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5" name="Picture 37" descr="dietrich-marlene-photo-xxl-marlene-dietrich-6220459"/>
          <p:cNvPicPr/>
          <p:nvPr/>
        </p:nvPicPr>
        <p:blipFill>
          <a:blip r:embed="rId7"/>
          <a:stretch/>
        </p:blipFill>
        <p:spPr>
          <a:xfrm>
            <a:off x="1619280" y="4869000"/>
            <a:ext cx="1400040" cy="1742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6" name="Text Box 38"/>
          <p:cNvSpPr/>
          <p:nvPr/>
        </p:nvSpPr>
        <p:spPr>
          <a:xfrm>
            <a:off x="2916360" y="981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ase study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‘Material Gir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So what is postmodernis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2743200"/>
            <a:ext cx="7772400" cy="24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ultural theorist Jean Baudrillard and Ihab Hassan combined to come up with following 8 non-laws of postmodernism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gency FB"/>
              </a:rPr>
              <a:t>Su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22856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mphasis of style over content or sub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move against traditional large narratives that dictated our lives e.g.: religion and poli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stellar"/>
              </a:rPr>
              <a:t>Appropr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ycling past styles and cultures in the form of ‘pastiche’ also known as ‘bricologe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Forte"/>
              </a:rPr>
              <a:t>Playful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nus on useless decoration applied in an exaggerated man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Haettenschweiler"/>
              </a:rPr>
              <a:t>Complex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blurring of boundaries between high and low a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Eras Demi ITC"/>
              </a:rPr>
              <a:t>Intertextu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one text/design cross references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What is modernis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lfaen"/>
              </a:rPr>
              <a:t>Modernism was a new way of thinking and perceiving the world at the turn of the Twentieth centu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lfaen"/>
              </a:rPr>
              <a:t>Modernism in the arts incorporated fine art and sculpture, design, literature and theat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lfaen"/>
              </a:rPr>
              <a:t>Modernist work was influenced by the modern world  and the dawning of a new centu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National Primary"/>
              </a:rPr>
              <a:t>Divers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aried cultural experie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oudy Stout"/>
              </a:rPr>
              <a:t>Audi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entral to the interpretation of meaning. Each individual brings their own subjective mea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So how much do we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se Study:  analyse the opening sequence to Baz Lurhamnn’s version of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‘Romeo and Julie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ok gain at Baudrillard and Hassan’s theories of postmodernism and see how many you can apply to the cl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" descr="DVD%20-%20Romeo%20&amp;%20Juliet%20(Hollywood)"/>
          <p:cNvPicPr/>
          <p:nvPr/>
        </p:nvPicPr>
        <p:blipFill>
          <a:blip r:embed="rId1"/>
          <a:stretch/>
        </p:blipFill>
        <p:spPr>
          <a:xfrm>
            <a:off x="1295280" y="3962520"/>
            <a:ext cx="1820880" cy="2590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DVD%20-%20Romeo%20&amp;%20Juliet%20(Hollywood)"/>
          <p:cNvPicPr/>
          <p:nvPr/>
        </p:nvPicPr>
        <p:blipFill>
          <a:blip r:embed="rId2"/>
          <a:stretch/>
        </p:blipFill>
        <p:spPr>
          <a:xfrm>
            <a:off x="3886200" y="3962520"/>
            <a:ext cx="1790640" cy="2549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DVD%20-%20Romeo%20&amp;%20Juliet%20(Hollywood)"/>
          <p:cNvPicPr/>
          <p:nvPr/>
        </p:nvPicPr>
        <p:blipFill>
          <a:blip r:embed="rId3"/>
          <a:stretch/>
        </p:blipFill>
        <p:spPr>
          <a:xfrm>
            <a:off x="6400800" y="3962520"/>
            <a:ext cx="1766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Lets go back to our media texts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321300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review: in your groups look again at the media texts you were given at the start of the lesson. Apply the 8 postmodern concepts – annotate on paper/white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nk about your work in terms of postmodern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w many of the postmodern concepts can you apply to your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surface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intertextuality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diversity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Rejection of big id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appropr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ke some no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a Language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112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ow is meaning constructed through the use of media language in one of your coursework production?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nsi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chnical asp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miotics and postmodern analy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re and narrative conven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Modernist 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le_chandail_jaune-dora_maar"/>
          <p:cNvPicPr/>
          <p:nvPr/>
        </p:nvPicPr>
        <p:blipFill>
          <a:blip r:embed="rId1"/>
          <a:stretch/>
        </p:blipFill>
        <p:spPr>
          <a:xfrm>
            <a:off x="1042920" y="2133720"/>
            <a:ext cx="2527200" cy="2846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ersistence"/>
          <p:cNvPicPr/>
          <p:nvPr/>
        </p:nvPicPr>
        <p:blipFill>
          <a:blip r:embed="rId2"/>
          <a:stretch/>
        </p:blipFill>
        <p:spPr>
          <a:xfrm>
            <a:off x="4643280" y="2133720"/>
            <a:ext cx="3886200" cy="28288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1332000" y="530064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Cubism and Surrea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Verdana"/>
              </a:rPr>
              <a:t>Modernist Architecture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Eiffel_Tower"/>
          <p:cNvPicPr/>
          <p:nvPr/>
        </p:nvPicPr>
        <p:blipFill>
          <a:blip r:embed="rId1"/>
          <a:stretch/>
        </p:blipFill>
        <p:spPr>
          <a:xfrm>
            <a:off x="2971800" y="1905120"/>
            <a:ext cx="27338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Modernist Literatur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joyce"/>
          <p:cNvPicPr/>
          <p:nvPr/>
        </p:nvPicPr>
        <p:blipFill>
          <a:blip r:embed="rId1"/>
          <a:stretch/>
        </p:blipFill>
        <p:spPr>
          <a:xfrm>
            <a:off x="1219320" y="1905120"/>
            <a:ext cx="3154320" cy="3921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joyce"/>
          <p:cNvPicPr/>
          <p:nvPr/>
        </p:nvPicPr>
        <p:blipFill>
          <a:blip r:embed="rId2"/>
          <a:stretch/>
        </p:blipFill>
        <p:spPr>
          <a:xfrm>
            <a:off x="5486400" y="2743200"/>
            <a:ext cx="2492280" cy="22068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4932360" y="5516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James Joyce’s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‘Ulysses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6091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Twentieth Century Modernist 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180px-Chaplin_The_Kid"/>
          <p:cNvPicPr/>
          <p:nvPr/>
        </p:nvPicPr>
        <p:blipFill>
          <a:blip r:embed="rId1"/>
          <a:stretch/>
        </p:blipFill>
        <p:spPr>
          <a:xfrm>
            <a:off x="762120" y="2286000"/>
            <a:ext cx="2057400" cy="2914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Man%20Ray%20-%20Ingres"/>
          <p:cNvPicPr/>
          <p:nvPr/>
        </p:nvPicPr>
        <p:blipFill>
          <a:blip r:embed="rId2"/>
          <a:stretch/>
        </p:blipFill>
        <p:spPr>
          <a:xfrm>
            <a:off x="3352680" y="2362320"/>
            <a:ext cx="2152800" cy="2874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armstrong"/>
          <p:cNvPicPr/>
          <p:nvPr/>
        </p:nvPicPr>
        <p:blipFill>
          <a:blip r:embed="rId3"/>
          <a:stretch/>
        </p:blipFill>
        <p:spPr>
          <a:xfrm>
            <a:off x="5934240" y="2286000"/>
            <a:ext cx="2219040" cy="30099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1"/>
          <p:cNvSpPr/>
          <p:nvPr/>
        </p:nvSpPr>
        <p:spPr>
          <a:xfrm>
            <a:off x="826920" y="57340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Film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  Photography         Jaz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162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Rockwell"/>
              </a:rPr>
              <a:t>Postmodernism for beginners…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Rockwell"/>
              </a:rPr>
              <a:t>…….a question of old versus ne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920" y="4330800"/>
            <a:ext cx="7772400" cy="21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s 1- Mus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godfath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133720"/>
            <a:ext cx="4495680" cy="3206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fugees~~~~~_score~~~~_101b"/>
          <p:cNvPicPr/>
          <p:nvPr/>
        </p:nvPicPr>
        <p:blipFill>
          <a:blip r:embed="rId3"/>
          <a:stretch/>
        </p:blipFill>
        <p:spPr>
          <a:xfrm>
            <a:off x="5638680" y="2209680"/>
            <a:ext cx="306720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bob-marley-burn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198900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B00000ADG2"/>
          <p:cNvPicPr/>
          <p:nvPr/>
        </p:nvPicPr>
        <p:blipFill>
          <a:blip r:embed="rId3"/>
          <a:stretch/>
        </p:blipFill>
        <p:spPr>
          <a:xfrm>
            <a:off x="4859280" y="185112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2:54:33Z</dcterms:created>
  <dc:creator>HP registered user</dc:creator>
  <dc:description/>
  <dc:language>en-US</dc:language>
  <cp:lastModifiedBy>Permaul, Pravin</cp:lastModifiedBy>
  <dcterms:modified xsi:type="dcterms:W3CDTF">2013-05-15T12:02:32Z</dcterms:modified>
  <cp:revision>24</cp:revision>
  <dc:subject/>
  <dc:title>Critical Theory  Postmodernism.</dc:title>
</cp:coreProperties>
</file>